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21604288" cy="198040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55E-15B7-4A1E-88CF-E4762EF1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720" y="791640"/>
            <a:ext cx="19440360" cy="329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720" y="4616280"/>
            <a:ext cx="1944036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0720" y="11443680"/>
            <a:ext cx="1944036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0C0-D80F-4918-B889-D3D9D8F4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720" y="791640"/>
            <a:ext cx="19440360" cy="329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0720" y="4616280"/>
            <a:ext cx="948672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042280" y="4616280"/>
            <a:ext cx="948672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0720" y="11443680"/>
            <a:ext cx="948672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042280" y="11443680"/>
            <a:ext cx="948672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E07-9EF5-4237-98B0-DA1CEE65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0720" y="791640"/>
            <a:ext cx="19440360" cy="329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0720" y="4616280"/>
            <a:ext cx="625968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53600" y="4616280"/>
            <a:ext cx="625968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26840" y="4616280"/>
            <a:ext cx="625968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0720" y="11443680"/>
            <a:ext cx="625968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653600" y="11443680"/>
            <a:ext cx="625968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26840" y="11443680"/>
            <a:ext cx="625968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6E1-110F-4852-AAB1-5D3A6A0B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720" y="791640"/>
            <a:ext cx="19440360" cy="329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0720" y="4616280"/>
            <a:ext cx="19440360" cy="130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C95-44CB-4ABD-B775-BADB518D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720" y="791640"/>
            <a:ext cx="19440360" cy="329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0720" y="4616280"/>
            <a:ext cx="19440360" cy="13071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E68-4C03-434E-924B-6B1E9762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720" y="791640"/>
            <a:ext cx="19440360" cy="329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0720" y="4616280"/>
            <a:ext cx="9486720" cy="13071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042280" y="4616280"/>
            <a:ext cx="9486720" cy="13071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A18-CA6F-48E7-BDFC-5AE96D6C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720" y="791640"/>
            <a:ext cx="19440360" cy="329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EBF-7EC9-451C-BBDD-7E3188DD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0720" y="791640"/>
            <a:ext cx="19440360" cy="152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9F3-F846-4D14-9536-DD3A8590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720" y="791640"/>
            <a:ext cx="19440360" cy="329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720" y="4616280"/>
            <a:ext cx="948672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2280" y="4616280"/>
            <a:ext cx="9486720" cy="13071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0720" y="11443680"/>
            <a:ext cx="948672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883-02B4-4726-ACED-3A34E00C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720" y="791640"/>
            <a:ext cx="19440360" cy="329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720" y="4616280"/>
            <a:ext cx="9486720" cy="13071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2280" y="4616280"/>
            <a:ext cx="948672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042280" y="11443680"/>
            <a:ext cx="948672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CA6-7F25-4E90-9E50-B03B9BA8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720" y="791640"/>
            <a:ext cx="19440360" cy="329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720" y="4616280"/>
            <a:ext cx="948672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042280" y="4616280"/>
            <a:ext cx="948672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0720" y="11443680"/>
            <a:ext cx="19440360" cy="62348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A15-6257-4327-99E5-218CB79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720" y="791640"/>
            <a:ext cx="19440360" cy="329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720" y="4616280"/>
            <a:ext cx="19440360" cy="13071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18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920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860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860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860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81080" y="18035640"/>
            <a:ext cx="5038560" cy="1371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84680" y="18035640"/>
            <a:ext cx="6838920" cy="1371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482880" y="18035640"/>
            <a:ext cx="5038560" cy="1371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63F1-C39C-4D53-AAEA-59E7D8CC21CE}" type="slidenum">
              <a:rPr b="0" lang="zh-CN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248000" y="8101080"/>
            <a:ext cx="15124320" cy="47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Book Antiqua"/>
              </a:rPr>
              <a:t>—</a:t>
            </a:r>
            <a:r>
              <a:rPr b="1" lang="zh-CN" sz="6600" spc="-1" strike="noStrike">
                <a:solidFill>
                  <a:srgbClr val="000000"/>
                </a:solidFill>
                <a:latin typeface="Book Antiqua"/>
              </a:rPr>
              <a:t>Power Unit Problem Solv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Book Antiqua"/>
              </a:rPr>
              <a:t>—</a:t>
            </a:r>
            <a:r>
              <a:rPr b="1" lang="zh-CN" sz="6600" spc="-1" strike="noStrike">
                <a:solidFill>
                  <a:srgbClr val="000000"/>
                </a:solidFill>
                <a:latin typeface="Book Antiqua"/>
              </a:rPr>
              <a:t>Display Unit Problem Solv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Book Antiqua"/>
              </a:rPr>
              <a:t>—</a:t>
            </a:r>
            <a:r>
              <a:rPr b="1" lang="zh-CN" sz="6600" spc="-1" strike="noStrike">
                <a:solidFill>
                  <a:srgbClr val="000000"/>
                </a:solidFill>
                <a:latin typeface="Book Antiqua"/>
              </a:rPr>
              <a:t>Audio Unit Problem Solv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Book Antiqua"/>
              </a:rPr>
              <a:t>—</a:t>
            </a:r>
            <a:r>
              <a:rPr b="1" lang="zh-CN" sz="6600" spc="-1" strike="noStrike">
                <a:solidFill>
                  <a:srgbClr val="000000"/>
                </a:solidFill>
                <a:latin typeface="Book Antiqua"/>
              </a:rPr>
              <a:t>Functional Unit Problem Solv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97080" y="2125800"/>
            <a:ext cx="15413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ook Antiqua"/>
              </a:rPr>
              <a:t>CV9202H-UPW-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ook Antiqua"/>
              </a:rPr>
              <a:t>Common problems solu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10009080" y="1908000"/>
            <a:ext cx="3313080" cy="172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Under HD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6121440" y="4284720"/>
            <a:ext cx="113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5256360" y="6300720"/>
            <a:ext cx="1869840" cy="172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No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17426160" y="4284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16057440" y="6300720"/>
            <a:ext cx="2665440" cy="172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There is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but no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3889440" y="1235088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3889440" y="123508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8856720" y="1235088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1800360" y="14725800"/>
            <a:ext cx="4178160" cy="20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Refer to "power failur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repai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1"/>
          <p:cNvSpPr/>
          <p:nvPr/>
        </p:nvSpPr>
        <p:spPr>
          <a:xfrm>
            <a:off x="7562880" y="14725800"/>
            <a:ext cx="2590920" cy="194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HDMI and inpu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17426160" y="802944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3"/>
          <p:cNvSpPr/>
          <p:nvPr/>
        </p:nvSpPr>
        <p:spPr>
          <a:xfrm>
            <a:off x="13179600" y="14798520"/>
            <a:ext cx="3095280" cy="187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HD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nput net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and E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6191280" y="80294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5"/>
          <p:cNvSpPr/>
          <p:nvPr/>
        </p:nvSpPr>
        <p:spPr>
          <a:xfrm>
            <a:off x="4606920" y="9542520"/>
            <a:ext cx="381780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HDMI related network of 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6191280" y="1083780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8280360" y="11485440"/>
            <a:ext cx="11937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8"/>
          <p:cNvSpPr/>
          <p:nvPr/>
        </p:nvSpPr>
        <p:spPr>
          <a:xfrm>
            <a:off x="11522160" y="3708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6121440" y="421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0"/>
          <p:cNvSpPr/>
          <p:nvPr/>
        </p:nvSpPr>
        <p:spPr>
          <a:xfrm>
            <a:off x="6121440" y="42847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720720" y="755640"/>
            <a:ext cx="7343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Picture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Function unit</a:t>
            </a: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HDMI</a:t>
            </a: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2"/>
          <p:cNvSpPr/>
          <p:nvPr/>
        </p:nvSpPr>
        <p:spPr>
          <a:xfrm>
            <a:off x="15770160" y="9613800"/>
            <a:ext cx="3313080" cy="172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here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sound under P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3"/>
          <p:cNvSpPr/>
          <p:nvPr/>
        </p:nvSpPr>
        <p:spPr>
          <a:xfrm>
            <a:off x="14763600" y="12996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4"/>
          <p:cNvSpPr/>
          <p:nvPr/>
        </p:nvSpPr>
        <p:spPr>
          <a:xfrm>
            <a:off x="14763600" y="12996720"/>
            <a:ext cx="0" cy="18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5"/>
          <p:cNvSpPr/>
          <p:nvPr/>
        </p:nvSpPr>
        <p:spPr>
          <a:xfrm>
            <a:off x="19730880" y="1299672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6"/>
          <p:cNvSpPr/>
          <p:nvPr/>
        </p:nvSpPr>
        <p:spPr>
          <a:xfrm>
            <a:off x="17065800" y="11484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7"/>
          <p:cNvSpPr/>
          <p:nvPr/>
        </p:nvSpPr>
        <p:spPr>
          <a:xfrm>
            <a:off x="14546160" y="12349080"/>
            <a:ext cx="11937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8"/>
          <p:cNvSpPr/>
          <p:nvPr/>
        </p:nvSpPr>
        <p:spPr>
          <a:xfrm>
            <a:off x="19154880" y="12420720"/>
            <a:ext cx="11952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9"/>
          <p:cNvSpPr/>
          <p:nvPr/>
        </p:nvSpPr>
        <p:spPr>
          <a:xfrm>
            <a:off x="17786520" y="14725800"/>
            <a:ext cx="3097080" cy="187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Refer to  "no sound" repai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3915360" y="11414160"/>
            <a:ext cx="675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6520" rIns="236520" tIns="118440" bIns="118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1"/>
          <p:cNvSpPr/>
          <p:nvPr/>
        </p:nvSpPr>
        <p:spPr>
          <a:xfrm>
            <a:off x="10298160" y="6156360"/>
            <a:ext cx="2663640" cy="244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HD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s g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2"/>
          <p:cNvSpPr/>
          <p:nvPr/>
        </p:nvSpPr>
        <p:spPr>
          <a:xfrm>
            <a:off x="7129440" y="7093080"/>
            <a:ext cx="31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-118080" bIns="-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3"/>
          <p:cNvSpPr/>
          <p:nvPr/>
        </p:nvSpPr>
        <p:spPr>
          <a:xfrm>
            <a:off x="12961800" y="71658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-118080" bIns="-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5184720" y="1549440"/>
            <a:ext cx="432108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TV no searchin/no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2385800" y="154764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Picture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Function unit(D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VB-S2 video breakd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7201080" y="227016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1512720" y="4070520"/>
            <a:ext cx="162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4680000" y="2557440"/>
            <a:ext cx="575928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external 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nput signal is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17714880" y="407052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1512720" y="407052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871640" y="3565440"/>
            <a:ext cx="11923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360360" y="5435640"/>
            <a:ext cx="2519280" cy="2808360"/>
          </a:xfrm>
          <a:custGeom>
            <a:avLst/>
            <a:gdLst>
              <a:gd name="textAreaLeft" fmla="*/ 122760 w 2519280"/>
              <a:gd name="textAreaRight" fmla="*/ 2396520 w 2519280"/>
              <a:gd name="textAreaTop" fmla="*/ 122760 h 2808360"/>
              <a:gd name="textAreaBottom" fmla="*/ 2685600 h 2808360"/>
            </a:gdLst>
            <a:ahLst/>
            <a:rect l="textAreaLeft" t="textAreaTop" r="textAreaRight" b="textAreaBottom"/>
            <a:pathLst>
              <a:path w="21600" h="24078">
                <a:moveTo>
                  <a:pt x="3600" y="0"/>
                </a:moveTo>
                <a:arcTo wR="3600" hR="3600" stAng="16200000" swAng="-5400000"/>
                <a:lnTo>
                  <a:pt x="0" y="20478"/>
                </a:lnTo>
                <a:arcTo wR="3600" hR="3600" stAng="10800000" swAng="-5400000"/>
                <a:lnTo>
                  <a:pt x="18000" y="24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re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periph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R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7065800" y="3565440"/>
            <a:ext cx="11919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15122520" y="4430880"/>
            <a:ext cx="4537080" cy="12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whether pin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3,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of  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3 got 3.3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17714880" y="57261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15338520" y="608652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20523240" y="6086520"/>
            <a:ext cx="0" cy="907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6"/>
          <p:cNvSpPr/>
          <p:nvPr/>
        </p:nvSpPr>
        <p:spPr>
          <a:xfrm>
            <a:off x="19297800" y="15157440"/>
            <a:ext cx="2160360" cy="359892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3598920"/>
              <a:gd name="textAreaBottom" fmla="*/ 3493800 h 3598920"/>
            </a:gdLst>
            <a:ahLst/>
            <a:rect l="textAreaLeft" t="textAreaTop" r="textAreaRight" b="textAreaBottom"/>
            <a:pathLst>
              <a:path w="21600" h="35981">
                <a:moveTo>
                  <a:pt x="3600" y="0"/>
                </a:moveTo>
                <a:arcTo wR="3600" hR="3600" stAng="16200000" swAng="-5400000"/>
                <a:lnTo>
                  <a:pt x="0" y="32381"/>
                </a:lnTo>
                <a:arcTo wR="3600" hR="3600" stAng="10800000" swAng="-5400000"/>
                <a:lnTo>
                  <a:pt x="18000" y="359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and repair the  power supply  network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B5 circuit of this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12096720" y="5581800"/>
            <a:ext cx="16984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19154880" y="5654520"/>
            <a:ext cx="122544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9"/>
          <p:cNvSpPr/>
          <p:nvPr/>
        </p:nvSpPr>
        <p:spPr>
          <a:xfrm>
            <a:off x="11809440" y="5581800"/>
            <a:ext cx="1697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0"/>
          <p:cNvSpPr/>
          <p:nvPr/>
        </p:nvSpPr>
        <p:spPr>
          <a:xfrm>
            <a:off x="11665080" y="60865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1"/>
          <p:cNvSpPr/>
          <p:nvPr/>
        </p:nvSpPr>
        <p:spPr>
          <a:xfrm>
            <a:off x="11737800" y="81741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2"/>
          <p:cNvSpPr/>
          <p:nvPr/>
        </p:nvSpPr>
        <p:spPr>
          <a:xfrm>
            <a:off x="7705800" y="8605800"/>
            <a:ext cx="96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>
            <a:off x="17354520" y="8605800"/>
            <a:ext cx="0" cy="65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15986160" y="15301800"/>
            <a:ext cx="2879640" cy="2738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s broken, change tu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15409800" y="8102520"/>
            <a:ext cx="12240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6"/>
          <p:cNvSpPr/>
          <p:nvPr/>
        </p:nvSpPr>
        <p:spPr>
          <a:xfrm>
            <a:off x="7921800" y="8102520"/>
            <a:ext cx="169524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7"/>
          <p:cNvSpPr/>
          <p:nvPr/>
        </p:nvSpPr>
        <p:spPr>
          <a:xfrm>
            <a:off x="7705800" y="86058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4248000" y="9037800"/>
            <a:ext cx="7056720" cy="86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whether the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S signal output from U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9"/>
          <p:cNvSpPr/>
          <p:nvPr/>
        </p:nvSpPr>
        <p:spPr>
          <a:xfrm>
            <a:off x="7705800" y="99741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0"/>
          <p:cNvSpPr/>
          <p:nvPr/>
        </p:nvSpPr>
        <p:spPr>
          <a:xfrm>
            <a:off x="4464000" y="1047744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9578880" y="9974160"/>
            <a:ext cx="12240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>
            <a:off x="4464000" y="1047744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2521080" y="10982160"/>
            <a:ext cx="4319280" cy="280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whether the connection from 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 to U14 is 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4968720" y="10045800"/>
            <a:ext cx="169704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5"/>
          <p:cNvSpPr/>
          <p:nvPr/>
        </p:nvSpPr>
        <p:spPr>
          <a:xfrm>
            <a:off x="7201080" y="36370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6"/>
          <p:cNvSpPr/>
          <p:nvPr/>
        </p:nvSpPr>
        <p:spPr>
          <a:xfrm flipH="1">
            <a:off x="11665080" y="60865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7"/>
          <p:cNvSpPr/>
          <p:nvPr/>
        </p:nvSpPr>
        <p:spPr>
          <a:xfrm>
            <a:off x="11665080" y="10477440"/>
            <a:ext cx="0" cy="532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8"/>
          <p:cNvSpPr/>
          <p:nvPr/>
        </p:nvSpPr>
        <p:spPr>
          <a:xfrm>
            <a:off x="10153800" y="15878160"/>
            <a:ext cx="2665440" cy="187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is broken, change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9"/>
          <p:cNvSpPr/>
          <p:nvPr/>
        </p:nvSpPr>
        <p:spPr>
          <a:xfrm>
            <a:off x="4392720" y="13790520"/>
            <a:ext cx="468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0"/>
          <p:cNvSpPr/>
          <p:nvPr/>
        </p:nvSpPr>
        <p:spPr>
          <a:xfrm>
            <a:off x="2879640" y="146541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1"/>
          <p:cNvSpPr/>
          <p:nvPr/>
        </p:nvSpPr>
        <p:spPr>
          <a:xfrm>
            <a:off x="2879640" y="146541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>
            <a:off x="5978520" y="1465416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3"/>
          <p:cNvSpPr/>
          <p:nvPr/>
        </p:nvSpPr>
        <p:spPr>
          <a:xfrm>
            <a:off x="5184720" y="14150880"/>
            <a:ext cx="5778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4"/>
          <p:cNvSpPr/>
          <p:nvPr/>
        </p:nvSpPr>
        <p:spPr>
          <a:xfrm>
            <a:off x="2879640" y="14222520"/>
            <a:ext cx="5763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5"/>
          <p:cNvSpPr/>
          <p:nvPr/>
        </p:nvSpPr>
        <p:spPr>
          <a:xfrm>
            <a:off x="361800" y="15806880"/>
            <a:ext cx="3816360" cy="230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periphera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6"/>
          <p:cNvSpPr/>
          <p:nvPr/>
        </p:nvSpPr>
        <p:spPr>
          <a:xfrm>
            <a:off x="9505800" y="6445080"/>
            <a:ext cx="4824720" cy="165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pin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8,9 of tuner U3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here is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Q sig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7"/>
          <p:cNvSpPr/>
          <p:nvPr/>
        </p:nvSpPr>
        <p:spPr>
          <a:xfrm>
            <a:off x="4392720" y="15805080"/>
            <a:ext cx="3816360" cy="230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and re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this connecting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Q截图20120907152511"/>
          <p:cNvPicPr/>
          <p:nvPr/>
        </p:nvPicPr>
        <p:blipFill>
          <a:blip r:embed="rId1"/>
          <a:stretch/>
        </p:blipFill>
        <p:spPr>
          <a:xfrm>
            <a:off x="0" y="0"/>
            <a:ext cx="19730880" cy="194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8424720" y="1044720"/>
            <a:ext cx="5113440" cy="1511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6520" rIns="236520" tIns="118440" bIns="1184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n stand-by condi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pin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J1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got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+12V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13825440" y="6300720"/>
            <a:ext cx="3743280" cy="14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Normal b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0585440" y="14079600"/>
            <a:ext cx="6264360" cy="425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ther power suppply and main board is short circu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power chip LDO(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) wor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power chip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C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(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8,U9) work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DIODE (D5)wor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3609800" y="8245440"/>
            <a:ext cx="4978080" cy="417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After power on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sting point TP7 got 3.3v, testing point D5 got 2.5v, testing P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oint  T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got 1v? Testing P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oint  T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6 got 1.5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15746400" y="567684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5770160" y="7740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1058544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Picture 1: Power Units Problem So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(Mainboard can not boo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13322160" y="12996720"/>
            <a:ext cx="50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7211600" y="12322080"/>
            <a:ext cx="65088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3263840" y="12322080"/>
            <a:ext cx="7434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6520" rIns="236520" tIns="118440" bIns="11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17691120" y="14090760"/>
            <a:ext cx="3111480" cy="4383000"/>
          </a:xfrm>
          <a:custGeom>
            <a:avLst/>
            <a:gdLst>
              <a:gd name="textAreaLeft" fmla="*/ 151560 w 3111480"/>
              <a:gd name="textAreaRight" fmla="*/ 2959920 w 3111480"/>
              <a:gd name="textAreaTop" fmla="*/ 151560 h 4383000"/>
              <a:gd name="textAreaBottom" fmla="*/ 4231440 h 4383000"/>
            </a:gdLst>
            <a:ahLst/>
            <a:rect l="textAreaLeft" t="textAreaTop" r="textAreaRight" b="textAreaBottom"/>
            <a:pathLst>
              <a:path w="21600" h="30426">
                <a:moveTo>
                  <a:pt x="3600" y="0"/>
                </a:moveTo>
                <a:arcTo wR="3600" hR="3600" stAng="16200000" swAng="-5400000"/>
                <a:lnTo>
                  <a:pt x="0" y="26826"/>
                </a:lnTo>
                <a:arcTo wR="3600" hR="3600" stAng="10800000" swAng="-5400000"/>
                <a:lnTo>
                  <a:pt x="18000" y="30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6520" rIns="236520" tIns="118440" bIns="11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5770160" y="12422160"/>
            <a:ext cx="18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18364320" y="12996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3322160" y="12996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8640720" y="6732720"/>
            <a:ext cx="3743280" cy="14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eck the DC(U9)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DO(U17) relat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10514160" y="5194440"/>
            <a:ext cx="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9578880" y="5580000"/>
            <a:ext cx="64944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5064200" y="5607000"/>
            <a:ext cx="675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6520" rIns="236520" tIns="118440" bIns="11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2378160" y="3348000"/>
            <a:ext cx="134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15841800" y="33638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11017080" y="255600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4230440" y="2685960"/>
            <a:ext cx="65088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014800" y="2543040"/>
            <a:ext cx="65088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6"/>
          <p:cNvSpPr/>
          <p:nvPr/>
        </p:nvSpPr>
        <p:spPr>
          <a:xfrm flipH="1">
            <a:off x="10513800" y="5148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2378160" y="3348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577800" y="6877080"/>
            <a:ext cx="3741840" cy="14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external power sup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11658600" y="4257720"/>
            <a:ext cx="9001080" cy="14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mai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sting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point T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8 got 5V_SB?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T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9 got  3.3_S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8763120" y="2413080"/>
            <a:ext cx="2722320" cy="1251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Black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10120320" y="3664080"/>
            <a:ext cx="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7272360" y="4906800"/>
            <a:ext cx="5402160" cy="14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he voltage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power panel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s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10120320" y="6362640"/>
            <a:ext cx="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5695920" y="7405560"/>
            <a:ext cx="115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5695920" y="7405560"/>
            <a:ext cx="0" cy="10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17264160" y="7405560"/>
            <a:ext cx="0" cy="457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2809800" y="8442360"/>
            <a:ext cx="7562880" cy="145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eck the socket that controls Inver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ther the voltage output from p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le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13865400" y="11980800"/>
            <a:ext cx="6634080" cy="217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the external power supply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5695920" y="9901080"/>
            <a:ext cx="0" cy="10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2805120" y="10937880"/>
            <a:ext cx="663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2805120" y="10937880"/>
            <a:ext cx="0" cy="18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9442440" y="10937880"/>
            <a:ext cx="0" cy="18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16586280" y="6568920"/>
            <a:ext cx="17002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2635200" y="10109160"/>
            <a:ext cx="17035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8933040" y="10109160"/>
            <a:ext cx="169704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5526000" y="6568920"/>
            <a:ext cx="169884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9"/>
          <p:cNvSpPr/>
          <p:nvPr/>
        </p:nvSpPr>
        <p:spPr>
          <a:xfrm>
            <a:off x="933480" y="12817440"/>
            <a:ext cx="4253040" cy="165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and repai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network that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nverter ON/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0"/>
          <p:cNvSpPr/>
          <p:nvPr/>
        </p:nvSpPr>
        <p:spPr>
          <a:xfrm>
            <a:off x="6913440" y="12819240"/>
            <a:ext cx="4824360" cy="1658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nverter is broken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onnecting line is not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1368360" y="1189080"/>
            <a:ext cx="663912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Pictur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Display unit ( black scre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6769080" y="1405080"/>
            <a:ext cx="5184720" cy="138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Mess 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Black screen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Back light on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9272520" y="2771640"/>
            <a:ext cx="0" cy="12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5978520" y="3927600"/>
            <a:ext cx="6624720" cy="1522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driven board cable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onnection is 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9272520" y="5435640"/>
            <a:ext cx="0" cy="10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5016600" y="6443640"/>
            <a:ext cx="1275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17775360" y="6443640"/>
            <a:ext cx="0" cy="873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168720" y="6950160"/>
            <a:ext cx="3889440" cy="132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whether it is 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after cha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ing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LC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7297560" y="11988720"/>
            <a:ext cx="17035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7092440" y="5938920"/>
            <a:ext cx="17067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5113440" y="82454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2448000" y="9109080"/>
            <a:ext cx="538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2448000" y="9109080"/>
            <a:ext cx="0" cy="640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7848720" y="9109080"/>
            <a:ext cx="0" cy="10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1017080" y="13284360"/>
            <a:ext cx="17002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 flipH="1">
            <a:off x="2664000" y="8531280"/>
            <a:ext cx="20383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5472000" y="10188720"/>
            <a:ext cx="4934160" cy="1668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output networ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J15 driven bo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socket part is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5545080" y="1501308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>
            <a:off x="7848720" y="13790520"/>
            <a:ext cx="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 flipH="1">
            <a:off x="6984360" y="14077800"/>
            <a:ext cx="7938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3"/>
          <p:cNvSpPr/>
          <p:nvPr/>
        </p:nvSpPr>
        <p:spPr>
          <a:xfrm>
            <a:off x="3745080" y="15589080"/>
            <a:ext cx="4248000" cy="280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wh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power supply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lock circuit chip LV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output pin is short ciuc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or open circu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12530160" y="12347640"/>
            <a:ext cx="3240000" cy="11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Repair this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12817440" y="11412360"/>
            <a:ext cx="102564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440" bIns="11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0441080" y="10980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-118080" bIns="-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13970160" y="109807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9"/>
          <p:cNvSpPr/>
          <p:nvPr/>
        </p:nvSpPr>
        <p:spPr>
          <a:xfrm>
            <a:off x="8931240" y="15589080"/>
            <a:ext cx="4032360" cy="273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LCD power VCC-Panel is correct? Voltage in pin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 or 2 of J15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is correct? Q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3 output voltage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10514160" y="15013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5545080" y="15013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2"/>
          <p:cNvSpPr/>
          <p:nvPr/>
        </p:nvSpPr>
        <p:spPr>
          <a:xfrm>
            <a:off x="5689440" y="12350880"/>
            <a:ext cx="4032360" cy="1395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h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match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9721800" y="129985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-118080" bIns="-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4"/>
          <p:cNvSpPr/>
          <p:nvPr/>
        </p:nvSpPr>
        <p:spPr>
          <a:xfrm>
            <a:off x="11593440" y="12996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5"/>
          <p:cNvSpPr/>
          <p:nvPr/>
        </p:nvSpPr>
        <p:spPr>
          <a:xfrm>
            <a:off x="10872720" y="13860360"/>
            <a:ext cx="3168720" cy="1370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Upgrad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matche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6"/>
          <p:cNvSpPr/>
          <p:nvPr/>
        </p:nvSpPr>
        <p:spPr>
          <a:xfrm>
            <a:off x="6337440" y="8604360"/>
            <a:ext cx="16999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7"/>
          <p:cNvSpPr/>
          <p:nvPr/>
        </p:nvSpPr>
        <p:spPr>
          <a:xfrm>
            <a:off x="7848720" y="11844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8"/>
          <p:cNvSpPr/>
          <p:nvPr/>
        </p:nvSpPr>
        <p:spPr>
          <a:xfrm>
            <a:off x="5040360" y="644364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15841800" y="15230520"/>
            <a:ext cx="3684600" cy="229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ange driven bo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152360" y="15517800"/>
            <a:ext cx="2230560" cy="166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ange L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863640" y="1405080"/>
            <a:ext cx="58323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Picture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Display unit(me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6337440" y="1405080"/>
            <a:ext cx="2212920" cy="834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No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4537080" y="2557440"/>
            <a:ext cx="7128000" cy="13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f there is anyaudio signal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or Whether amplifier power supp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s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1800360" y="4284720"/>
            <a:ext cx="9360" cy="1080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10958400" y="433872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77800" y="15086160"/>
            <a:ext cx="2160720" cy="36003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3600360"/>
              <a:gd name="textAreaBottom" fmla="*/ 3494880 h 3600360"/>
            </a:gdLst>
            <a:ahLst/>
            <a:rect l="textAreaLeft" t="textAreaTop" r="textAreaRight" b="textAreaBottom"/>
            <a:pathLst>
              <a:path w="21600" h="35989">
                <a:moveTo>
                  <a:pt x="3600" y="0"/>
                </a:moveTo>
                <a:arcTo wR="3600" hR="3600" stAng="16200000" swAng="-5400000"/>
                <a:lnTo>
                  <a:pt x="0" y="32389"/>
                </a:lnTo>
                <a:arcTo wR="3600" hR="3600" stAng="10800000" swAng="-5400000"/>
                <a:lnTo>
                  <a:pt x="18000" y="35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periph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equi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amplif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supp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4835240" y="8827920"/>
            <a:ext cx="4895640" cy="1289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here is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nput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a3110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in 3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3732120" y="6384960"/>
            <a:ext cx="10288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10958400" y="5987880"/>
            <a:ext cx="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24200" y="3809880"/>
            <a:ext cx="11952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0094760" y="3943440"/>
            <a:ext cx="11955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13465080" y="5940360"/>
            <a:ext cx="11923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105440" y="5940360"/>
            <a:ext cx="11919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3732120" y="6451560"/>
            <a:ext cx="12960" cy="9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14022360" y="638496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9310680" y="4735440"/>
            <a:ext cx="3795840" cy="1254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ther the volu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tting is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879640" y="15878160"/>
            <a:ext cx="1649520" cy="2252520"/>
          </a:xfrm>
          <a:custGeom>
            <a:avLst/>
            <a:gdLst>
              <a:gd name="textAreaLeft" fmla="*/ 80280 w 1649520"/>
              <a:gd name="textAreaRight" fmla="*/ 1569240 w 1649520"/>
              <a:gd name="textAreaTop" fmla="*/ 80280 h 2252520"/>
              <a:gd name="textAreaBottom" fmla="*/ 2172240 h 2252520"/>
            </a:gdLst>
            <a:ahLst/>
            <a:rect l="textAreaLeft" t="textAreaTop" r="textAreaRight" b="textAreaBottom"/>
            <a:pathLst>
              <a:path w="21600" h="29494">
                <a:moveTo>
                  <a:pt x="3600" y="0"/>
                </a:moveTo>
                <a:arcTo wR="3600" hR="3600" stAng="16200000" swAng="-5400000"/>
                <a:lnTo>
                  <a:pt x="0" y="25894"/>
                </a:lnTo>
                <a:arcTo wR="3600" hR="3600" stAng="10800000" swAng="-5400000"/>
                <a:lnTo>
                  <a:pt x="18000" y="29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Re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12025440" y="6732720"/>
            <a:ext cx="410508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he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signal output from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J1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14041440" y="795672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V="1">
            <a:off x="5381640" y="8432280"/>
            <a:ext cx="1181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>
            <a:off x="17210160" y="846144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>
            <a:off x="5381640" y="8432640"/>
            <a:ext cx="19080" cy="751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5381640" y="8034480"/>
            <a:ext cx="11844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16300440" y="7969320"/>
            <a:ext cx="11937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4680000" y="15949440"/>
            <a:ext cx="2089080" cy="237816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378160"/>
              <a:gd name="textAreaBottom" fmla="*/ 2276280 h 2378160"/>
            </a:gdLst>
            <a:ahLst/>
            <a:rect l="textAreaLeft" t="textAreaTop" r="textAreaRight" b="textAreaBottom"/>
            <a:pathLst>
              <a:path w="21600" h="24588">
                <a:moveTo>
                  <a:pt x="3600" y="0"/>
                </a:moveTo>
                <a:arcTo wR="3600" hR="3600" stAng="16200000" swAng="-5400000"/>
                <a:lnTo>
                  <a:pt x="0" y="20988"/>
                </a:lnTo>
                <a:arcTo wR="3600" hR="3600" stAng="10800000" swAng="-5400000"/>
                <a:lnTo>
                  <a:pt x="18000" y="245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e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ter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ud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6"/>
          <p:cNvSpPr/>
          <p:nvPr/>
        </p:nvSpPr>
        <p:spPr>
          <a:xfrm>
            <a:off x="17138520" y="1011888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12765240" y="10213920"/>
            <a:ext cx="11919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12607920" y="11798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9"/>
          <p:cNvSpPr/>
          <p:nvPr/>
        </p:nvSpPr>
        <p:spPr>
          <a:xfrm>
            <a:off x="8540640" y="12192120"/>
            <a:ext cx="681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0"/>
          <p:cNvSpPr/>
          <p:nvPr/>
        </p:nvSpPr>
        <p:spPr>
          <a:xfrm>
            <a:off x="8540640" y="12206160"/>
            <a:ext cx="12960" cy="384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14886000" y="11798280"/>
            <a:ext cx="11937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8640720" y="11701440"/>
            <a:ext cx="11955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9"/>
          <p:cNvSpPr/>
          <p:nvPr/>
        </p:nvSpPr>
        <p:spPr>
          <a:xfrm>
            <a:off x="13538160" y="14365440"/>
            <a:ext cx="3600360" cy="21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and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net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of  the conn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part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14 and U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13179600" y="1836720"/>
            <a:ext cx="720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Pictur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Audio part (no sou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1"/>
          <p:cNvSpPr/>
          <p:nvPr/>
        </p:nvSpPr>
        <p:spPr>
          <a:xfrm flipH="1">
            <a:off x="15338520" y="12204720"/>
            <a:ext cx="4608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14330520" y="16745040"/>
            <a:ext cx="11858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3"/>
          <p:cNvSpPr/>
          <p:nvPr/>
        </p:nvSpPr>
        <p:spPr>
          <a:xfrm>
            <a:off x="1800360" y="4284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4"/>
          <p:cNvSpPr/>
          <p:nvPr/>
        </p:nvSpPr>
        <p:spPr>
          <a:xfrm>
            <a:off x="7418520" y="2268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5"/>
          <p:cNvSpPr/>
          <p:nvPr/>
        </p:nvSpPr>
        <p:spPr>
          <a:xfrm>
            <a:off x="7418520" y="3852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11522160" y="111981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7"/>
          <p:cNvSpPr/>
          <p:nvPr/>
        </p:nvSpPr>
        <p:spPr>
          <a:xfrm flipH="1">
            <a:off x="12601080" y="1069344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8"/>
          <p:cNvSpPr/>
          <p:nvPr/>
        </p:nvSpPr>
        <p:spPr>
          <a:xfrm>
            <a:off x="12601440" y="106934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1"/>
          <p:cNvSpPr/>
          <p:nvPr/>
        </p:nvSpPr>
        <p:spPr>
          <a:xfrm>
            <a:off x="6912000" y="16022520"/>
            <a:ext cx="4537080" cy="216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and re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amplifier powe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ircuit, if powe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s normal, then change 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1"/>
          <p:cNvSpPr/>
          <p:nvPr/>
        </p:nvSpPr>
        <p:spPr>
          <a:xfrm>
            <a:off x="16992720" y="4068720"/>
            <a:ext cx="119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096720" y="219708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Pictur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Function  unit (ATV video broke d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7129440" y="234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968720" y="2629080"/>
            <a:ext cx="432288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eck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ternal RF  input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7641800" y="45734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798560" y="4068720"/>
            <a:ext cx="11923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16992720" y="4068720"/>
            <a:ext cx="11919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15121080" y="5005440"/>
            <a:ext cx="4464000" cy="165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whether pi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of tuner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21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got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3.3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7641800" y="66610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15265440" y="709308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19010160" y="15230520"/>
            <a:ext cx="2303640" cy="3456000"/>
          </a:xfrm>
          <a:custGeom>
            <a:avLst/>
            <a:gdLst>
              <a:gd name="textAreaLeft" fmla="*/ 112320 w 2303640"/>
              <a:gd name="textAreaRight" fmla="*/ 2191320 w 2303640"/>
              <a:gd name="textAreaTop" fmla="*/ 112320 h 3456000"/>
              <a:gd name="textAreaBottom" fmla="*/ 3343680 h 3456000"/>
            </a:gdLst>
            <a:ahLst/>
            <a:rect l="textAreaLeft" t="textAreaTop" r="textAreaRight" b="textAreaBottom"/>
            <a:pathLst>
              <a:path w="21600" h="32403">
                <a:moveTo>
                  <a:pt x="3600" y="0"/>
                </a:moveTo>
                <a:arcTo wR="3600" hR="3600" stAng="16200000" swAng="-5400000"/>
                <a:lnTo>
                  <a:pt x="0" y="28803"/>
                </a:lnTo>
                <a:arcTo wR="3600" hR="3600" stAng="10800000" swAng="-5400000"/>
                <a:lnTo>
                  <a:pt x="18000" y="3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and repair  power supply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B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2528720" y="6518160"/>
            <a:ext cx="16984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18291240" y="7093080"/>
            <a:ext cx="12222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9"/>
          <p:cNvSpPr/>
          <p:nvPr/>
        </p:nvSpPr>
        <p:spPr>
          <a:xfrm>
            <a:off x="8999640" y="7453440"/>
            <a:ext cx="5400720" cy="165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pi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9,10of tuner U21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here is I2C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11592000" y="70930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11520360" y="91090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632720" y="9469440"/>
            <a:ext cx="92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4"/>
          <p:cNvSpPr/>
          <p:nvPr/>
        </p:nvSpPr>
        <p:spPr>
          <a:xfrm>
            <a:off x="15336720" y="16094160"/>
            <a:ext cx="3240360" cy="20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whether I2C network pull-up voltage is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14832000" y="8966160"/>
            <a:ext cx="12240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7705800" y="9037800"/>
            <a:ext cx="169524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7632720" y="94694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8"/>
          <p:cNvSpPr/>
          <p:nvPr/>
        </p:nvSpPr>
        <p:spPr>
          <a:xfrm>
            <a:off x="4681440" y="9829800"/>
            <a:ext cx="604836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pin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6 of U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got intermediate-frequency sig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9"/>
          <p:cNvSpPr/>
          <p:nvPr/>
        </p:nvSpPr>
        <p:spPr>
          <a:xfrm>
            <a:off x="7632720" y="1076472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0"/>
          <p:cNvSpPr/>
          <p:nvPr/>
        </p:nvSpPr>
        <p:spPr>
          <a:xfrm>
            <a:off x="4608360" y="11196720"/>
            <a:ext cx="60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10223640" y="10621800"/>
            <a:ext cx="12240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2"/>
          <p:cNvSpPr/>
          <p:nvPr/>
        </p:nvSpPr>
        <p:spPr>
          <a:xfrm>
            <a:off x="5905440" y="16238520"/>
            <a:ext cx="2233800" cy="187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Repair the connecting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4753080" y="10693440"/>
            <a:ext cx="16984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4"/>
          <p:cNvSpPr/>
          <p:nvPr/>
        </p:nvSpPr>
        <p:spPr>
          <a:xfrm>
            <a:off x="10656720" y="111981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5"/>
          <p:cNvSpPr/>
          <p:nvPr/>
        </p:nvSpPr>
        <p:spPr>
          <a:xfrm>
            <a:off x="8424720" y="11630160"/>
            <a:ext cx="5256360" cy="165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 he peripheral circ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of 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1 is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6"/>
          <p:cNvSpPr/>
          <p:nvPr/>
        </p:nvSpPr>
        <p:spPr>
          <a:xfrm>
            <a:off x="7128000" y="414036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7"/>
          <p:cNvSpPr/>
          <p:nvPr/>
        </p:nvSpPr>
        <p:spPr>
          <a:xfrm flipH="1">
            <a:off x="11592000" y="709308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10656720" y="133570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9363240" y="13862160"/>
            <a:ext cx="47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12960360" y="13357080"/>
            <a:ext cx="12240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1"/>
          <p:cNvSpPr/>
          <p:nvPr/>
        </p:nvSpPr>
        <p:spPr>
          <a:xfrm>
            <a:off x="9290160" y="13430160"/>
            <a:ext cx="169524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2"/>
          <p:cNvSpPr/>
          <p:nvPr/>
        </p:nvSpPr>
        <p:spPr>
          <a:xfrm>
            <a:off x="14112720" y="1393524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3"/>
          <p:cNvSpPr/>
          <p:nvPr/>
        </p:nvSpPr>
        <p:spPr>
          <a:xfrm>
            <a:off x="12673080" y="15735240"/>
            <a:ext cx="2306520" cy="230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Repair the periphera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4"/>
          <p:cNvSpPr/>
          <p:nvPr/>
        </p:nvSpPr>
        <p:spPr>
          <a:xfrm>
            <a:off x="4608360" y="11196720"/>
            <a:ext cx="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5"/>
          <p:cNvSpPr/>
          <p:nvPr/>
        </p:nvSpPr>
        <p:spPr>
          <a:xfrm>
            <a:off x="3168720" y="138621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6"/>
          <p:cNvSpPr/>
          <p:nvPr/>
        </p:nvSpPr>
        <p:spPr>
          <a:xfrm>
            <a:off x="6264360" y="13357080"/>
            <a:ext cx="122544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7"/>
          <p:cNvSpPr/>
          <p:nvPr/>
        </p:nvSpPr>
        <p:spPr>
          <a:xfrm>
            <a:off x="6985080" y="138621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8"/>
          <p:cNvSpPr/>
          <p:nvPr/>
        </p:nvSpPr>
        <p:spPr>
          <a:xfrm>
            <a:off x="3168720" y="13357080"/>
            <a:ext cx="169704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9"/>
          <p:cNvSpPr/>
          <p:nvPr/>
        </p:nvSpPr>
        <p:spPr>
          <a:xfrm>
            <a:off x="9363240" y="138621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0"/>
          <p:cNvSpPr/>
          <p:nvPr/>
        </p:nvSpPr>
        <p:spPr>
          <a:xfrm>
            <a:off x="2592360" y="15808320"/>
            <a:ext cx="2952720" cy="309708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097080"/>
              <a:gd name="textAreaBottom" fmla="*/ 2953080 h 3097080"/>
            </a:gdLst>
            <a:ahLst/>
            <a:rect l="textAreaLeft" t="textAreaTop" r="textAreaRight" b="textAreaBottom"/>
            <a:pathLst>
              <a:path w="21600" h="22656">
                <a:moveTo>
                  <a:pt x="3600" y="0"/>
                </a:moveTo>
                <a:arcTo wR="3600" hR="3600" stAng="16200000" swAng="-5400000"/>
                <a:lnTo>
                  <a:pt x="0" y="19056"/>
                </a:lnTo>
                <a:arcTo wR="3600" hR="3600" stAng="10800000" swAng="-5400000"/>
                <a:lnTo>
                  <a:pt x="18000" y="226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video sound meter 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4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ircuit connecting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1"/>
          <p:cNvSpPr/>
          <p:nvPr/>
        </p:nvSpPr>
        <p:spPr>
          <a:xfrm>
            <a:off x="8640720" y="16165440"/>
            <a:ext cx="2305080" cy="180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ange tu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2"/>
          <p:cNvSpPr/>
          <p:nvPr/>
        </p:nvSpPr>
        <p:spPr>
          <a:xfrm>
            <a:off x="2664000" y="11773080"/>
            <a:ext cx="4176360" cy="15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he direct connecting network of 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4 is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3"/>
          <p:cNvSpPr/>
          <p:nvPr/>
        </p:nvSpPr>
        <p:spPr>
          <a:xfrm>
            <a:off x="4608360" y="134301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4"/>
          <p:cNvSpPr/>
          <p:nvPr/>
        </p:nvSpPr>
        <p:spPr>
          <a:xfrm>
            <a:off x="3168720" y="138621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440000" y="4573440"/>
            <a:ext cx="162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 flipH="1">
            <a:off x="1366560" y="4573440"/>
            <a:ext cx="11160" cy="110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434880" y="15589080"/>
            <a:ext cx="1870200" cy="2953080"/>
          </a:xfrm>
          <a:custGeom>
            <a:avLst/>
            <a:gdLst>
              <a:gd name="textAreaLeft" fmla="*/ 91080 w 1870200"/>
              <a:gd name="textAreaRight" fmla="*/ 1779120 w 1870200"/>
              <a:gd name="textAreaTop" fmla="*/ 91080 h 2953080"/>
              <a:gd name="textAreaBottom" fmla="*/ 2862000 h 2953080"/>
            </a:gdLst>
            <a:ahLst/>
            <a:rect l="textAreaLeft" t="textAreaTop" r="textAreaRight" b="textAreaBottom"/>
            <a:pathLst>
              <a:path w="21600" h="34104">
                <a:moveTo>
                  <a:pt x="3600" y="0"/>
                </a:moveTo>
                <a:arcTo wR="3600" hR="3600" stAng="16200000" swAng="-5400000"/>
                <a:lnTo>
                  <a:pt x="0" y="30504"/>
                </a:lnTo>
                <a:arcTo wR="3600" hR="3600" stAng="10800000" swAng="-5400000"/>
                <a:lnTo>
                  <a:pt x="18000" y="341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eck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iph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16921080" y="9469440"/>
            <a:ext cx="180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0450160" y="7093080"/>
            <a:ext cx="0" cy="813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"/>
          <p:cNvSpPr/>
          <p:nvPr/>
        </p:nvSpPr>
        <p:spPr>
          <a:xfrm>
            <a:off x="5762520" y="1547640"/>
            <a:ext cx="273384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V no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no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6983280" y="1692360"/>
            <a:ext cx="4535640" cy="1225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V no sound, only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9144000" y="29178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7054920" y="3708360"/>
            <a:ext cx="4608360" cy="1225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here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sound under PC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AV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9144000" y="493380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311640" y="5654520"/>
            <a:ext cx="102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238200" y="5654520"/>
            <a:ext cx="73080" cy="9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3238560" y="5149800"/>
            <a:ext cx="11970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3031640" y="5076720"/>
            <a:ext cx="11941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1081080" y="15086160"/>
            <a:ext cx="4176720" cy="244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fer to “NO SOUND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ai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3681080" y="1908000"/>
            <a:ext cx="6769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Pictur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Function unit (ATV/DTV no sou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13606560" y="5654520"/>
            <a:ext cx="3240" cy="381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11593440" y="15230520"/>
            <a:ext cx="3814920" cy="187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ange 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11737800" y="9540720"/>
            <a:ext cx="3673800" cy="237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software is OK? input system is set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13538160" y="119174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6624720" y="2989440"/>
            <a:ext cx="7056360" cy="10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Unde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>
            <a:off x="2664000" y="4932360"/>
            <a:ext cx="164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2664000" y="4932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"/>
          <p:cNvSpPr/>
          <p:nvPr/>
        </p:nvSpPr>
        <p:spPr>
          <a:xfrm>
            <a:off x="6985080" y="4932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14833440" y="5003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H="1">
            <a:off x="19152720" y="5005440"/>
            <a:ext cx="180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1657440" y="7021440"/>
            <a:ext cx="2305080" cy="172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mage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10009080" y="39974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6048360" y="7093080"/>
            <a:ext cx="1871640" cy="1726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iss col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13897080" y="7164360"/>
            <a:ext cx="180000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m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h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18145080" y="7164360"/>
            <a:ext cx="1800360" cy="165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No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2664000" y="8748720"/>
            <a:ext cx="0" cy="561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1008000" y="14293800"/>
            <a:ext cx="2592360" cy="216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rry 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uto-adj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5"/>
          <p:cNvSpPr/>
          <p:nvPr/>
        </p:nvSpPr>
        <p:spPr>
          <a:xfrm>
            <a:off x="6985080" y="882180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753080" y="9613800"/>
            <a:ext cx="5111640" cy="15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U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R.G.B input signal is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6985080" y="112698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5329080" y="11845800"/>
            <a:ext cx="548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5329080" y="1184580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4178160" y="14293800"/>
            <a:ext cx="2590920" cy="259236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592360"/>
              <a:gd name="textAreaBottom" fmla="*/ 2466000 h 259236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incorrec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e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5256360" y="11269800"/>
            <a:ext cx="11952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8064360" y="11269800"/>
            <a:ext cx="11941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3"/>
          <p:cNvSpPr/>
          <p:nvPr/>
        </p:nvSpPr>
        <p:spPr>
          <a:xfrm>
            <a:off x="14833440" y="8964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4"/>
          <p:cNvSpPr/>
          <p:nvPr/>
        </p:nvSpPr>
        <p:spPr>
          <a:xfrm>
            <a:off x="13034880" y="9613800"/>
            <a:ext cx="3959280" cy="1222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VS,HS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s regular or s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19153080" y="1191744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6"/>
          <p:cNvSpPr/>
          <p:nvPr/>
        </p:nvSpPr>
        <p:spPr>
          <a:xfrm>
            <a:off x="17713440" y="14436720"/>
            <a:ext cx="2881080" cy="187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eck VS.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7"/>
          <p:cNvSpPr/>
          <p:nvPr/>
        </p:nvSpPr>
        <p:spPr>
          <a:xfrm>
            <a:off x="14976360" y="10836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>
            <a:off x="13176360" y="1184436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13176360" y="11844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0"/>
          <p:cNvSpPr/>
          <p:nvPr/>
        </p:nvSpPr>
        <p:spPr>
          <a:xfrm>
            <a:off x="16490880" y="11844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1"/>
          <p:cNvSpPr/>
          <p:nvPr/>
        </p:nvSpPr>
        <p:spPr>
          <a:xfrm>
            <a:off x="11953800" y="14222520"/>
            <a:ext cx="287964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SD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esn’t matc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et i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esn’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2"/>
          <p:cNvSpPr/>
          <p:nvPr/>
        </p:nvSpPr>
        <p:spPr>
          <a:xfrm>
            <a:off x="15122520" y="14149440"/>
            <a:ext cx="2448000" cy="20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eck VS.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3"/>
          <p:cNvSpPr/>
          <p:nvPr/>
        </p:nvSpPr>
        <p:spPr>
          <a:xfrm>
            <a:off x="13176360" y="11341080"/>
            <a:ext cx="11937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4"/>
          <p:cNvSpPr/>
          <p:nvPr/>
        </p:nvSpPr>
        <p:spPr>
          <a:xfrm>
            <a:off x="15984360" y="11341080"/>
            <a:ext cx="11955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5"/>
          <p:cNvSpPr/>
          <p:nvPr/>
        </p:nvSpPr>
        <p:spPr>
          <a:xfrm>
            <a:off x="9363240" y="7093080"/>
            <a:ext cx="2519280" cy="20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ontac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VGA soc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s g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6"/>
          <p:cNvSpPr/>
          <p:nvPr/>
        </p:nvSpPr>
        <p:spPr>
          <a:xfrm>
            <a:off x="17643600" y="10117080"/>
            <a:ext cx="2950920" cy="180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Wheth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ontac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VGA soc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s g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7"/>
          <p:cNvSpPr/>
          <p:nvPr/>
        </p:nvSpPr>
        <p:spPr>
          <a:xfrm>
            <a:off x="19081800" y="882000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8"/>
          <p:cNvSpPr/>
          <p:nvPr/>
        </p:nvSpPr>
        <p:spPr>
          <a:xfrm>
            <a:off x="7921800" y="7813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-118080" bIns="-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9"/>
          <p:cNvSpPr/>
          <p:nvPr/>
        </p:nvSpPr>
        <p:spPr>
          <a:xfrm>
            <a:off x="9433080" y="14438160"/>
            <a:ext cx="2232000" cy="237672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2376720"/>
              <a:gd name="textAreaBottom" fmla="*/ 2268000 h 2376720"/>
            </a:gdLst>
            <a:ahLst/>
            <a:rect l="textAreaLeft" t="textAreaTop" r="textAreaRight" b="textAreaBottom"/>
            <a:pathLst>
              <a:path w="21600" h="23000">
                <a:moveTo>
                  <a:pt x="3600" y="0"/>
                </a:moveTo>
                <a:arcTo wR="3600" hR="3600" stAng="16200000" swAng="-5400000"/>
                <a:lnTo>
                  <a:pt x="0" y="19400"/>
                </a:lnTo>
                <a:arcTo wR="3600" hR="3600" stAng="10800000" swAng="-5400000"/>
                <a:lnTo>
                  <a:pt x="18000" y="23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Check V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input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0"/>
          <p:cNvSpPr/>
          <p:nvPr/>
        </p:nvSpPr>
        <p:spPr>
          <a:xfrm>
            <a:off x="10815480" y="1184580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6520" rIns="236520" tIns="118080" bIns="11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1"/>
          <p:cNvSpPr/>
          <p:nvPr/>
        </p:nvSpPr>
        <p:spPr>
          <a:xfrm>
            <a:off x="13897080" y="1836720"/>
            <a:ext cx="6335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Picture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Function unit</a:t>
            </a: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PC</a:t>
            </a: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3:51:33Z</dcterms:created>
  <dc:creator>微软用户</dc:creator>
  <dc:description/>
  <cp:keywords/>
  <dc:language>en-US</dc:language>
  <cp:lastModifiedBy>user</cp:lastModifiedBy>
  <cp:lastPrinted>1900-01-04T05:48:54Z</cp:lastPrinted>
  <dcterms:modified xsi:type="dcterms:W3CDTF">2013-05-07T05:40:26Z</dcterms:modified>
  <cp:revision>5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